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D8D40-62EF-484A-84C4-054E5CAE9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2867A-0E04-4AA8-B182-3F5D0AF44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56BCA-41A0-4671-9A85-0CC0F4A2A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6CC80-1EF3-49FF-B784-130DCFCA2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1364E-AF09-4056-929C-D9EC47B4E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E45EF-51BF-4FEA-AC70-450A9D08C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4D344-87D2-4D17-8425-32C173467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FA577-0B80-4479-91B9-1C92693B8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EC5AA-8D5A-4EEA-9D68-7CADE371E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E29B7-1708-4519-99D0-F6BD89EEB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012F5-172E-4A5E-B64D-7AC186706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E2B03-CB45-4728-87F9-4A74BD74B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6FFCA-AE88-4120-8DAA-76FED27B6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2F633-42F7-4380-9F6B-7397305B9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C92B4-A60C-465D-9A35-13F501A98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6423C-566A-4959-B5E1-4D69648F5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7FC18-1446-4095-BE8D-C3B1EB37C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CF4C1-CFED-41E8-8B2E-9516E53C8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FD9A6-3823-4DAC-80D5-244AF4418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B997A-1558-4043-BC32-9A701E2A5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780CB-BC88-4B51-AEF1-9FB3C6294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C7D69-6A3B-42C7-949E-9743E76E6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13881-608A-48C7-B939-DC83EF2ED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80644-D263-4265-A110-41F0E2244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F97F6-B918-4176-BAD0-2AB320773BC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05AE3-8070-4268-B84B-F85C4529102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ocal Area Network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echnolog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Protocols in Contex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0763"/>
          <a:stretch/>
        </p:blipFill>
        <p:spPr>
          <a:xfrm>
            <a:off x="533520" y="1371600"/>
            <a:ext cx="7924680" cy="51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al case of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trunk, no branch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5440"/>
          <a:stretch/>
        </p:blipFill>
        <p:spPr>
          <a:xfrm>
            <a:off x="685800" y="1371600"/>
            <a:ext cx="769608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and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oint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propagates throughout mediu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rd by all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to identify target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ch station has unique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connection between station and t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for transmission and rece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regulat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colli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hogg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small blocks -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or absorbs frames at end of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Transmission - Bu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0716"/>
          <a:stretch/>
        </p:blipFill>
        <p:spPr>
          <a:xfrm>
            <a:off x="2362320" y="1371600"/>
            <a:ext cx="44164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joined by point to point links in clos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data on one link and retransmit on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s 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ttach to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late past all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recognizes address and copies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irculates back to source where it is re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determines when station can inser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7911"/>
          <a:stretch/>
        </p:blipFill>
        <p:spPr>
          <a:xfrm>
            <a:off x="4000680" y="457200"/>
            <a:ext cx="51433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tation connected directly to central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via two point to poin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star, logical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act as fram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reater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mple access logic at s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problems of co-ord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ngle point of fail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tential bottlene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fic capacity dedicated to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response to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if many stations have data to transmit over extended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stream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bursty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contend fo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t under moderate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nd to collapse under heavy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sonal computer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 end networks and storage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ing large systems (mainframes and large storage devic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speed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stributed acc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number of de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receives data from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detects errors and discards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C optionally retransmits unsuccessfu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link level PDUs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upport multiaccess, shared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eved of some link access details by MA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involves specifying source and destination LLC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d to as service access points (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higher leve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mod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led after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to support connection mode LLC service (type 2 oper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numbered information PDUs to support Acknowledged connectionless service (typ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using LS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ical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4477"/>
          <a:stretch/>
        </p:blipFill>
        <p:spPr>
          <a:xfrm>
            <a:off x="533520" y="1744560"/>
            <a:ext cx="8001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balan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must be strong enough to meet receiver’s minimum signal strength requir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adequate signal to noise 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o strong that it overloads transmit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satisfy these for all combinations of sending and receiving station on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 to divide network into small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segments with amplifies or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practical in shared bus at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Eth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in 802.3 specification but no longer ma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y with avail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new install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d by star based twisted pair and optical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digita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 or Differential Manchest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 frequency spectrum of cabl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hannel on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-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kilometer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(basis for 802.3)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0 ohm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and 802.3 originally used 0.4 inch diameter cable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cable length 5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aps a multiple of 2.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that reflections from taps do not add in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100 t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Base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25 inch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bring to work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noise res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wer taps (3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istance (185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 offic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ktop image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capacity local sto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low speed local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pea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in both dir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oins two segments of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buff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gical isolation of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on different segments send at the same time, packets will coll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one path of segments and repeaters between any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583"/>
          <a:stretch/>
        </p:blipFill>
        <p:spPr>
          <a:xfrm>
            <a:off x="1905120" y="1371600"/>
            <a:ext cx="571500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repeater connects to two others via unidirectional transmission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los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red bit by bit from one repeater to the n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generates and retransmits each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performs data insertion, data reception, data 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acts as attachment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removed by transmitter after one trip round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Repeater Sta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8957"/>
          <a:stretch/>
        </p:blipFill>
        <p:spPr>
          <a:xfrm>
            <a:off x="533520" y="2162160"/>
            <a:ext cx="8076960" cy="22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sten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n passing bit stream for patter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of attached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ken permission to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py incoming bit and send to attach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st forwarding each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y bit as it pa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 indicate a packet has been copied (AC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t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ha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has per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ceive incoming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ing bit length shorter than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ss back to station for checking (ACK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packet o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 for retransmission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ypass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 propagate past repeater with no delay (other than propagation dela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al solution to reliability problem (see la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ber op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broad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uld have to receive and transmit on multiple channels, asynchron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 J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 included with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differential 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ed by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know when to sample signal and recover b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clocking for re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y deviates from midbit transmission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erfections in circuit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without distortion but with timing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 effect is that bit length v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s number of repeaters o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lving Timing Jitter Limit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uses phase lock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ize deviation from one bit to the n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uffer at one or more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ld a certain number of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and and contract to keep bit length of ring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ificant increase in maximum ring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tential Ring 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in any link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failure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ation of new repeater to attach new station requires identification of two topologically adjacent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hod of removing circulating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backup in case of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solved with star-ring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Ring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 all inter-repeater links to single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central access to signal on every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find fa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aunch message into ring and see how far it g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y segment can be disconnected and repaired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repeater can be added easi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pass relay can be moved to 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ead to long cable ru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nect multiple rings using bri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unshielded twisted pair wire (tele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installation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already be an installed 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locations in building covered by existing instal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ach to a central active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and rece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ub repeats incoming signal on all outgoing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lengths limited to about 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ber optic - up to 500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bus - with colli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Level 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2903"/>
          <a:stretch/>
        </p:blipFill>
        <p:spPr>
          <a:xfrm>
            <a:off x="838080" y="1371600"/>
            <a:ext cx="7086600" cy="53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Swit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ared medium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retransmits incoming signal to all outgoing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a 10Mbps LAN, total capacity is 1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LAN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acts as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oming frame switches to appropriate outgoing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used lines can also be used to switch other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two pairs of lines in use, overall capacity is now 2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d Hub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change to software or hardware of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device has dedicated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e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re and forward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input, buffer it briefly, then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t through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 advantage of the destination address being at the start of th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gin repeating incoming frame onto output line as soon as address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propagate some ba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s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6483"/>
          <a:stretch/>
        </p:blipFill>
        <p:spPr>
          <a:xfrm>
            <a:off x="4438800" y="14400"/>
            <a:ext cx="4705200" cy="63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wire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cost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 building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madic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 hoc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Exten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ings with large open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ufacturing pla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rehou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storical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off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ixed with fixed wiring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s of OSI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 reference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(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7995"/>
          <a:stretch/>
        </p:blipFill>
        <p:spPr>
          <a:xfrm>
            <a:off x="914400" y="1371600"/>
            <a:ext cx="6705720" cy="54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rcRect l="0" t="0" r="0" b="9123"/>
          <a:stretch/>
        </p:blipFill>
        <p:spPr>
          <a:xfrm>
            <a:off x="457200" y="1606680"/>
            <a:ext cx="815328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 Building Inter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wireless link betwee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connecting bridges or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where cable connection not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ross a stre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madic Acc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e data termi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lapt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data from laptop to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mpus or cluster of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 Hoc 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er to pe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mpor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n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rcRect l="0" t="0" r="0" b="45919"/>
          <a:stretch/>
        </p:blipFill>
        <p:spPr>
          <a:xfrm>
            <a:off x="181080" y="1447920"/>
            <a:ext cx="4848120" cy="36576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rcRect l="15128" t="55215" r="14148" b="5351"/>
          <a:stretch/>
        </p:blipFill>
        <p:spPr>
          <a:xfrm>
            <a:off x="5562720" y="2057400"/>
            <a:ext cx="34290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o backb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tery power consum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obustness and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ocated network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cense fre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off/ro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Techn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 (IR)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spectrum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rrow band microwa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to expand beyond single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interconnection to other LANs/W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idge or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is simp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similar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cal protocols for physical and link lay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ore general purpo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various LANs and W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Bridge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ograp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 v OS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6091"/>
          <a:stretch/>
        </p:blipFill>
        <p:spPr>
          <a:xfrm>
            <a:off x="1447920" y="1371600"/>
            <a:ext cx="601956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 of a Brid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d all frames transmitted on one LAN and accept those address to any station on the other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ing MAC protocol for second LAN, retransmit each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the same the other way rou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rcRect l="0" t="0" r="0" b="6797"/>
          <a:stretch/>
        </p:blipFill>
        <p:spPr>
          <a:xfrm>
            <a:off x="1219320" y="1371600"/>
            <a:ext cx="66862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Design Asp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modification to content or format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ct bitwise cop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buffering to meet peak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s routing and address intellig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able to tell which frames to p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bridge to cr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nect more than two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ing is transparent t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to all stations on multiple LANs as if they are on one single L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eve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address is at this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does not need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relaying MAC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ass frame over external comms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W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tur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apsulat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ward it acros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ve encapsulation and forward over L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f Two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rcRect l="0" t="0" r="0" b="15832"/>
          <a:stretch/>
        </p:blipFill>
        <p:spPr>
          <a:xfrm>
            <a:off x="533520" y="1533600"/>
            <a:ext cx="800100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large LANs need alternative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ad bala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ether to forwar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ich LAN to forward frame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ed for each source-destination pair of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in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least hop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nged when topology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rcRect l="0" t="0" r="0" b="12427"/>
          <a:stretch/>
        </p:blipFill>
        <p:spPr>
          <a:xfrm>
            <a:off x="1981080" y="1371600"/>
            <a:ext cx="49672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automatically develops routing 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ally update in response to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op resol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forwarding database for each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station addresses reached through each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frame arriving on port X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arch forwarding database to see if MAC address is listed for any port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not found, forward to all ports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listed for port Y, check port Y for blocking or forwarding st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ocking prevents port from receiving or transmit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 blocked, transmit frame through port 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Lear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reload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lear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rame arrives at port X, it has come form the LAN attached to port 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source address to update forwarding database for port X to include tha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r on each entry in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ime frame arrives, source address checked against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/de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amble generation/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transmission/rece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medium and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 works for tree lay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o closed lo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ny connected graph there is a spanning tree that maintains connectivity but contains no closed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bridge assigned unique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between bridges to establish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op of 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rcRect l="0" t="0" r="0" b="10935"/>
          <a:stretch/>
        </p:blipFill>
        <p:spPr>
          <a:xfrm>
            <a:off x="2057400" y="1447920"/>
            <a:ext cx="51055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info on th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higher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embly of data into frame with address and error detection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embl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vern access to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ound in traditional layer 2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he same LLC, several MAC options may b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5T13:05:51Z</dcterms:created>
  <dc:creator>Adrian &amp; Wendy</dc:creator>
  <dc:description/>
  <dc:language>en-US</dc:language>
  <cp:lastModifiedBy>Adrian J Pullin</cp:lastModifiedBy>
  <dcterms:modified xsi:type="dcterms:W3CDTF">1999-11-18T18:32:04Z</dcterms:modified>
  <cp:revision>122</cp:revision>
  <dc:subject/>
  <dc:title>William Stallings Data and Computer Communications</dc:title>
</cp:coreProperties>
</file>